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F59-8648-402D-BD74-CC92C4F8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99B-4935-4F2A-B9E2-DBE0D183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401-DDF2-4AA0-B151-4E9F10B3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0CB-7C4C-4B7B-9427-90BD8A53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6BA4-502B-4581-9D1D-AB22A87F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869A-343C-4553-87ED-20ABDE6C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5A47-46D9-4CAA-B5C7-679E85B3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4481-458D-4101-9785-2E4E7068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2898-378B-4052-B797-B9DC49C2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B73A-1CB6-4014-8FEF-E5294ADE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DCF8-095E-4A1C-B537-86F93A2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55AA-AA87-4E98-99A2-D0207EF4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150B-83F2-44D9-96DE-81A2160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36B-7A57-456C-85CA-A70EFB31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B15-3CBC-4031-9D40-3E7D7BC8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A030-A038-4B9E-A0E7-28E4A652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CFD5-FFC5-4B51-850A-3B0B64C6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08E-738F-4DF1-95B2-E3CF1434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4E8-8477-41F4-B12B-50C099BD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9DC-E071-4A7F-B6B9-5DBBB5DC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70C-8F77-44DD-9B27-9A23BD1B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563-25B1-40C6-AB31-4CECCBB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C37-54B9-48CA-ABCE-5A1F1D9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A60-3023-4E27-84F1-59CDB50A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783B-5FAF-4B2F-B389-18F565C319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7E12-99D9-4E7D-96FC-2ABFE2959A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Competency%20Specific%20Resources/FITNESS%20COMPONENTS%20AND%20TESTING.pptx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Competency%20Specific%20Resources/STAGES%20OF%20CHANGE.pptx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CLIENT ORIENTATION, INDUCTION AND SCREEN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ffective Listening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en body langu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n forwa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cross your arms or le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tain eye cont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don’t st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use before reply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raphrase their information back to 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‘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mentioned earlier…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ffective Questioning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 a rapport to break down barr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knowledge your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pt your client no matter what ethnicity, body shape, gender or 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words like what, when, how, w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closed questions that only require a yes or 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tain a client foc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Arial"/>
              </a:rPr>
              <a:t>Non – Verbal Communication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ess profession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 on time to appoin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ve an open &amp; relaxed pos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ways sm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correcting technique don’t be afraid to touch your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EVER, don’t touch soft body p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PROFESS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ways demonstrate perfect technique yoursel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How do we Build Rapport with Different Personality Types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Before we learn how to work effectively with different personality type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WHICH PERSONALITY TYP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           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ARE YOU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Personality Types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Where do you fit i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067280" y="24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Task Orien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3995640" y="5877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People Orien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11280" y="39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Introver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732720" y="3789360"/>
            <a:ext cx="18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Extrover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156360" y="515772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I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195640" y="522936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195640" y="292428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C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084720" y="2852640"/>
            <a:ext cx="86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Verdana"/>
              </a:rPr>
              <a:t>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D: Dominant Direc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High achiever, task oriented, competitive, assertive, self-confid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Requires a challen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Not threatened by chan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Is impat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May want to take contr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I: Interactive Innovat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Outgoing, optimistic, imaginative, enthusiastic, drama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Requires fun, constant change, regular praising and more than one thing happening at a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Hates routine, likes to get their own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Very disorganised and l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S: Steady Rela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Kind, reliable, patient, relaxed, quiet, s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Hates quick change, requires security, loves being at h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Speaks softly and slowly, hates to stand out in a crow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erdana"/>
              </a:rPr>
              <a:t>Great listeners, pessimistic, early for appointments, write li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ype C: Concise Perfectionis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Slow, task oriented, follow rules, are exact and accur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Scientific, punctual, organised, critical, introver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Usually need more personal space and don’t like to be touc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Motivated by numbers and resea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Realistic rather than enthusias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Won’t tolerate inconsistencies or mista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Quick Question!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How would your communication differ from each personality typ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Type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SRFFIT003B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Undertake client induction and scre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SRFFIT001B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PROVIDE ORIENTATION TO CLIENTS PRIOR TO UNDERTAKING A FITNESS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Arial"/>
              </a:rPr>
              <a:t>Fitness Instructor Process</a:t>
            </a:r>
            <a:endParaRPr b="0" lang="en-US" sz="5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itial appoi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 screening appoi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ercise program appoin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ercise program revie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ow to Make an Initial Appointmen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formation gathered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Date,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lient’s name &amp; numb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urpose of appoin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ame of instr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643280" y="1916280"/>
            <a:ext cx="4032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formation provided to cli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  <a:ea typeface="Arial"/>
              </a:rPr>
              <a:t>Date, time of appoint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  <a:ea typeface="Arial"/>
              </a:rPr>
              <a:t>Instructors n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  <a:ea typeface="Arial"/>
              </a:rPr>
              <a:t>Directions to fac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oal of Initial Client Conta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ss your clients n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ss your clients expectations of you &amp; your facil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ch your clients needs with you and your facility’s serv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Questions to Answer During your Initial Appointmen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your client requi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ym program, group exercise class timetable, child care servic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long can your client spend at the gy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hour, 20 minut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your client require a medical clearance from their G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ow will these answers impact your decisions as a fitness instructo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alth Screening Questionnai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w what the Health Questionnaire is asking before you give it to your cl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Arial"/>
              </a:rPr>
              <a:t>Health Screening Appointment</a:t>
            </a:r>
            <a:endParaRPr b="0" lang="en-US" sz="4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fore you begin rebuild rap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your client comfortabl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roduce yourself &amp; your ro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k them about their recent health, work, family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certain whether your client i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erienced with exerc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experienc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id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f-consci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58400"/>
            <a:ext cx="878544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Health Screening Appointment cont.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Does your client need a 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medical clearance?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gh/low blood pressur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hm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abe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rn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jury / chronic pai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cribed medicat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Talk to your supervisor if your client has a condition, injury or is taking medic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00000040-wallpaper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y do we need a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edical Clearanc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d to be sure that exercise will be a benefit not a risk to their heal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ir doctor knows their health &amp; history more thoroughly than a health screening to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Exercise Program Appointmen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528560"/>
            <a:ext cx="87249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 over Health Screening Questionnaire with cli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certain clients goals &amp; nee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there any factors limiting their ability to exercis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much time can they commit to an exercise program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 realistic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e they new to exercise?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ve they had an exercise program befo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xercises did they enjo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xercises did they not enjo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Managing a Client’s Injury or Health Condi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r client has an injury or medical conditio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ir doctor / allied health professional abou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gn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recommend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exercises they should not 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y need to be reviewed by their doctor / allied health profess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Arial"/>
              </a:rPr>
              <a:t>1  Establish rapport with cli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et </a:t>
            </a:r>
            <a:r>
              <a:rPr b="1" i="1" lang="en-AU" sz="32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in a friendly and courteous mann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stablish the general service the </a:t>
            </a:r>
            <a:r>
              <a:rPr b="1" i="1" lang="en-AU" sz="32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wishes to access i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tch each Exercise to a Fitness Component</a:t>
            </a:r>
            <a:br>
              <a:rPr sz="4500"/>
            </a:br>
            <a:r>
              <a:rPr b="0" lang="en-AU" sz="1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..\Competency Specific Resources\FITNESS COMPONENTS AND TESTING.pptx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84360" y="227664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419640" y="4869000"/>
            <a:ext cx="26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Bala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684360" y="371628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Ag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203640" y="292428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scular Strengt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55640" y="551664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scular Endura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6012000" y="220500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ody Composi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6012000" y="580536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Spe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724360" y="3789360"/>
            <a:ext cx="266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erobic Capac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203640" y="1700280"/>
            <a:ext cx="266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Verdana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developing an exercise program be sure to includ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F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ency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number of reps &amp; sets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tensity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50%, 75%, 100% HR, effort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pe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weights, cardio, core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4800" spc="-1" strike="noStrike">
                <a:solidFill>
                  <a:srgbClr val="cc3300"/>
                </a:solidFill>
                <a:latin typeface="Verdana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me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length of each exercise &amp; program)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tructure of an Exercise Program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5 – 10 minute warm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inimum of 4, maximum of 12 exerci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alternate upper body &amp; lower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5 – 10 minute cool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stretching from head to to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hold each stretch for 20 – 30 secon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280" y="158400"/>
            <a:ext cx="878544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al Stages of Exercise Progra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Demonstrate each exerc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Use perfect technique for them to cop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Write down each exercise – sets, reps, we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Write safety hints &amp; technique tips where necessa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Correct any mistakes in their techniqu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Don’t let their poor technique become a bad hab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MEWORK TASK!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Using the FITT Principles, develop an exercise program for 2 of the following client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young female who doesn’t enjoy exerci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young male who wants to bulk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iddle aged man who is fit for his 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iddle aged woman who is overwe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mother of 3 young ki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grandfather who is over 6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to Maintain Motiv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How to specifically motivate each personality typ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I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make program fun &amp; ensure varie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S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make them feel like they’re helping you by exerci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C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use numbers of reps, time based exerci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Type D</a:t>
            </a:r>
            <a:r>
              <a:rPr b="0" lang="en-US" sz="2800" spc="-1" strike="noStrike">
                <a:solidFill>
                  <a:srgbClr val="800000"/>
                </a:solidFill>
                <a:latin typeface="Verdana"/>
              </a:rPr>
              <a:t> – continue to challenge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How to Maintain Motivation cont.</a:t>
            </a:r>
            <a:br>
              <a:rPr sz="4000"/>
            </a:br>
            <a:r>
              <a:rPr b="0" lang="en-AU" sz="16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..\Competency Specific Resources\STAGES OF CHANGE.pptx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158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Provide a program to mark off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Text message or email them once a mon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Exercise with a frien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Participate in group exercise classe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800000"/>
                </a:solidFill>
                <a:latin typeface="Verdana"/>
              </a:rPr>
              <a:t>Make exercise a routin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j0422267"/>
          <p:cNvPicPr/>
          <p:nvPr/>
        </p:nvPicPr>
        <p:blipFill>
          <a:blip r:embed="rId1"/>
          <a:srcRect l="0" t="14173" r="0" b="1082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cc3300"/>
                </a:solidFill>
                <a:latin typeface="Arial"/>
              </a:rPr>
              <a:t>Exercise Program Review</a:t>
            </a:r>
            <a:endParaRPr b="0" lang="en-US" sz="5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6 – 8 weeks be sure to contact your client for a program re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exercises are now too easy? Boring? Too har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hey satisfied with their progra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exercises would they like to keep? Chang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ower your client to help you design their progra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great motivational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99"/>
                </a:solidFill>
                <a:latin typeface="Arial"/>
              </a:rPr>
              <a:t>2  Identify general client fitness requireme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ssess the </a:t>
            </a:r>
            <a:r>
              <a:rPr b="1" i="1" lang="en-AU" sz="2800" spc="-1" strike="noStrike">
                <a:solidFill>
                  <a:srgbClr val="ffffff"/>
                </a:solidFill>
                <a:latin typeface="Verdana"/>
              </a:rPr>
              <a:t>requirements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 and expectations of clien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xplain the available services and facilities relevant to the client's wish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dvise the </a:t>
            </a:r>
            <a:r>
              <a:rPr b="1" i="1" lang="en-AU" sz="28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 on activities to meet identified ne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99"/>
                </a:solidFill>
                <a:latin typeface="Arial"/>
              </a:rPr>
              <a:t>3  Advise client on the benefits and procedures of fitness appraisal and exercise prescrip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Explain the specific benefits of the fitness activities relevant to the needs 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of the </a:t>
            </a:r>
            <a:r>
              <a:rPr b="1" i="1" lang="en-AU" sz="24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Advise the benefits of a fitness appraisal and exercise program to the </a:t>
            </a:r>
            <a:r>
              <a:rPr b="1" i="1" lang="en-AU" sz="2400" spc="-1" strike="noStrike">
                <a:solidFill>
                  <a:srgbClr val="ffffff"/>
                </a:solidFill>
                <a:latin typeface="Verdana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Make an </a:t>
            </a:r>
            <a:r>
              <a:rPr b="1" i="1" lang="en-AU" sz="2400" spc="-1" strike="noStrike">
                <a:solidFill>
                  <a:srgbClr val="ffffff"/>
                </a:solidFill>
                <a:latin typeface="Verdana"/>
              </a:rPr>
              <a:t>appointment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for an appraisal or programming session, if requi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99"/>
                </a:solidFill>
                <a:latin typeface="Arial"/>
              </a:rPr>
              <a:t>Deliver and process a basic health screening questionnai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7120" y="1599840"/>
            <a:ext cx="8329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Briefly explain the benefits of a pre–exercis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health 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Administer an industry standard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health 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Review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health 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questionnai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Explain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procedures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to be followed before commencing an exercise program when there are health concerns to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Provide information on the exercise program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client 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has selected to th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Book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client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in for an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appointment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with an instructor if an appraisal or program is requir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Report health concerns to a supervisor and/or instructor, if requir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Process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and/or file the </a:t>
            </a:r>
            <a:r>
              <a:rPr b="1" i="1" lang="en-AU" sz="2000" spc="-1" strike="noStrike">
                <a:solidFill>
                  <a:srgbClr val="ffffff"/>
                </a:solidFill>
                <a:latin typeface="Verdana"/>
              </a:rPr>
              <a:t>screening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 questionnai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Rapport?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78920" y="1988640"/>
            <a:ext cx="8642520" cy="22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Establish trust and understan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Encourage client to share more information with yo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Helps you to develop a program that is appropriate for th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Verdana"/>
              </a:rPr>
              <a:t>Helps you accurately recommend services that suit their ne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How do we Build Rapport?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043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i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nderstand the principles of exercise programming &amp; prescrip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e confident to share your knowled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716360" y="1628640"/>
            <a:ext cx="40435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ste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Questio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n-verbal skill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Effective Communication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-152280" y="1125360"/>
          <a:ext cx="9296280" cy="51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125360"/>
                    <a:ext cx="929628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01:12:44Z</dcterms:created>
  <dc:creator>Smith</dc:creator>
  <dc:description/>
  <dc:language>en-US</dc:language>
  <cp:lastModifiedBy>Lyn Clarkson</cp:lastModifiedBy>
  <dcterms:modified xsi:type="dcterms:W3CDTF">2008-11-19T22:26:57Z</dcterms:modified>
  <cp:revision>34</cp:revision>
  <dc:subject/>
  <dc:title>What is Rapport?</dc:title>
</cp:coreProperties>
</file>